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DFA3-6D7C-44AC-A705-EC357C55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B649-8149-49A9-83A6-BECB974A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1B86-1141-4A7B-A78F-966FCCA2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374A-ED86-4A2C-A692-40D574CC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C0C4-627C-4F6D-99BE-56C8BB69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171B-554F-4B8E-91E2-43730417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1931-4C3D-43B7-9FDF-3B002352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8B32-9B62-4931-AE9C-A6C93E81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6FF9-90CB-429B-8049-F27307F4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27AB-0684-47E1-9F91-98982696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C480-64DF-4DD1-889A-3BEA5B9B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E3EA-4ECD-411E-8B2F-7FFD3369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23B6-BFAA-4729-AA4A-1A41BA652B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Maurice Krasner and Liam Gallinagh</a:t>
            </a:r>
            <a:br>
              <a:rPr sz="1400"/>
            </a:b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E Period</a:t>
            </a:r>
            <a:br>
              <a:rPr sz="1400"/>
            </a:b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4/3/2012</a:t>
            </a:r>
            <a:br>
              <a:rPr sz="1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 Routina Epica De Calcifer</a:t>
            </a:r>
            <a:br>
              <a:rPr sz="4400"/>
            </a:br>
            <a:r>
              <a:rPr b="0" lang="en-US" sz="800" spc="-1" strike="noStrike">
                <a:solidFill>
                  <a:srgbClr val="ffff99"/>
                </a:solidFill>
                <a:latin typeface="Arial"/>
              </a:rPr>
              <a:t>(With the additions of Howl, Chester, Socks, and Judy…his crew)</a:t>
            </a:r>
            <a:endParaRPr b="0" lang="en-US" sz="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90920" y="1981080"/>
            <a:ext cx="3547800" cy="3886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3880" y="601992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llama Calcif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esperta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ifer se desperta a las seis y media por la m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l se levanta de la cama y corrid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0" y="3208320"/>
            <a:ext cx="44956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a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ña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ifer se b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ña con la lengua y cepilla con las patas. Se mira con el espej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76720" y="3276720"/>
            <a:ext cx="2984400" cy="3124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esayuna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ifer se desayuna a las siete por la m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ñan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enta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ifer se senta con sus amigos cuando se abur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95480" y="2257560"/>
            <a:ext cx="3432240" cy="4600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costa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 rot="20394600">
            <a:off x="6781320" y="4800240"/>
            <a:ext cx="2133720" cy="1589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rot="1009200">
            <a:off x="228240" y="3048120"/>
            <a:ext cx="2514600" cy="146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144792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ifer se acosta por la noche y se dormir a las ocho por la noch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3:45:19Z</dcterms:created>
  <dc:creator>gallinaghlia</dc:creator>
  <dc:description/>
  <dc:language>en-US</dc:language>
  <cp:lastModifiedBy>gallinaghlia</cp:lastModifiedBy>
  <dcterms:modified xsi:type="dcterms:W3CDTF">2012-04-05T13:23:26Z</dcterms:modified>
  <cp:revision>4</cp:revision>
  <dc:subject/>
  <dc:title>Maurice Krasner and Liam Gallinagh E Period 4/3/2012 La Routina Epica De Calcifer (With the additions of Howl, Chester, Socks, and Judy…his crew)</dc:title>
</cp:coreProperties>
</file>